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5AD0-64E9-48FA-B439-7C6B00376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3A01-D91A-4FC9-A8D0-6C39791A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90CD-7483-4E48-B07C-C9D697979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1508-B533-45CC-B34C-EED33B700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B6AC-C8B5-420E-B178-499BBDD0B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1E29-8FD3-48AA-B977-02C0C58D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F4CE-F380-4B06-93BB-23AFE3C6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0E0F-5372-45B9-8092-B338F742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656E-B3D1-4584-93D3-FD9E4E99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776E-8639-49D4-A621-DB52EB88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7F73-9CDF-498A-88CC-B85B3B62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F8A9-F817-4B07-B456-EA60F9AB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232E-0803-47CF-8B5E-D5C8276D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887A-5002-42A7-B24D-AD274B49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BBE6-4359-4243-8C9C-22981BDD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7AC7-6B95-49CF-BC0A-49D280FF3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E4EE-533B-4479-8170-2E9F28F9E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C56C-FE3C-48DA-8626-2675F0A3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C88B-B059-4D94-8213-283413C7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B594-8731-41C6-A72B-62A7F587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315C-4629-4D8D-A5ED-4BE0E4A5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09C6-9FAE-4A12-AB8F-883CA083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86C6-16A2-4C2A-B5AB-3E375AB7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1A00-51F7-4AA4-AE43-46F59373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D59D-5625-49ED-BF74-2EC9D27935C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7B70-1C9B-422E-A657-A2E0BA6FC21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en.wikipedia.org/wiki/Image:Genghis_Khan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0/0d/Onon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ngo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5681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Verdana"/>
              </a:rPr>
              <a:t>Pastoria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people from Mongolia.  Organized into cla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4" descr="map"/>
          <p:cNvPicPr/>
          <p:nvPr/>
        </p:nvPicPr>
        <p:blipFill>
          <a:blip r:embed="rId1"/>
          <a:stretch/>
        </p:blipFill>
        <p:spPr>
          <a:xfrm>
            <a:off x="457200" y="3086280"/>
            <a:ext cx="5410080" cy="37717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6172200" y="4191120"/>
            <a:ext cx="2606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mujin – unified the Mongols and in 1206 elected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Genghis Kh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strong rul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8" descr="200px-Genghis_Kha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72200" y="457200"/>
            <a:ext cx="22575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llap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o much money spent on conque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corrup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asant overthrew government and established Ming Dynas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ngol Empi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5" descr="mongol"/>
          <p:cNvPicPr/>
          <p:nvPr/>
        </p:nvPicPr>
        <p:blipFill>
          <a:blip r:embed="rId1"/>
          <a:stretch/>
        </p:blipFill>
        <p:spPr>
          <a:xfrm>
            <a:off x="533520" y="1752480"/>
            <a:ext cx="75438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olden Horde (Tartar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85840" y="1828440"/>
            <a:ext cx="4876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of the khanates or grandson of Genghis Khan,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atu Kha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dvanced far into eastern Europe and established in 1251 the rule of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olden Hord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 Russi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a result, Russia experienced a cultural decay and isolation from Europe  - reason for why Russia is part of Asia during Middle Ag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5" descr="m54-03"/>
          <p:cNvPicPr/>
          <p:nvPr/>
        </p:nvPicPr>
        <p:blipFill>
          <a:blip r:embed="rId1"/>
          <a:stretch/>
        </p:blipFill>
        <p:spPr>
          <a:xfrm>
            <a:off x="0" y="1752480"/>
            <a:ext cx="3828960" cy="5105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horde1-b"/>
          <p:cNvPicPr/>
          <p:nvPr/>
        </p:nvPicPr>
        <p:blipFill>
          <a:blip r:embed="rId2"/>
          <a:stretch/>
        </p:blipFill>
        <p:spPr>
          <a:xfrm>
            <a:off x="6781680" y="228600"/>
            <a:ext cx="179892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4" descr="Map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49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apan’s Kamikaze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1274, 1281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419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ied to go against Japan but horse archery not successful against island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ording to myth twice Japan saved by “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kamikaz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” divine winds or typho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Reality – ships were flat bottom boats – not good for rough sea; also may have been sabotaged by Korean shipbuilders upset with Mongol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5" descr="mongol_kamikaze"/>
          <p:cNvPicPr/>
          <p:nvPr/>
        </p:nvPicPr>
        <p:blipFill>
          <a:blip r:embed="rId1"/>
          <a:stretch/>
        </p:blipFill>
        <p:spPr>
          <a:xfrm>
            <a:off x="5257800" y="1447920"/>
            <a:ext cx="37339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ug 201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leadership of Genghis Khan, the use of the stirrup, and excellent horsemanship skills all contributed directly to th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1) collapse of Silk Road tra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2) defeat of Tokugawa Jap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3) beginning of European explo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4) rise of the Mongol Empi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anuary 201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important impact of the Mongol expansion across Asia and Europe was th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1) increased authority of the Kievan pri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2) rise in trade along the Silk Roa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3) introduction of Hinduism into Chinese cul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4) maritime exploration of the Arabian seacoa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une 201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ich areas did the Mongols conquer and incorporate into their empir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1) China, Russia, and Ira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2) Axum, Zimbabwe, and West Afri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3) Spain, France, and Egyp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4) Japan, India, and eastern Europ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ug 201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variety of reasons, groups have set out to conquer other regions or people using various methods of force. These groups include the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Mongol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the Spanish, and the Ottoman. Their conquests have had an impact on both the conqueror and the conquer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a reason for the conqu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how the conquest was achie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an impact of the conqu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P Practi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China, the Mongols broke with Chinese traditions b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bidding foreign merchants to enter the count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couraging the Confucian system of educ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inuing civil service examina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osing foot-biding on their wom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ing foreign administrators to enter Chin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Image:On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d where Genghis was born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5410080" y="3962520"/>
            <a:ext cx="3353040" cy="25146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"/>
          <p:cNvSpPr/>
          <p:nvPr/>
        </p:nvSpPr>
        <p:spPr>
          <a:xfrm>
            <a:off x="3505320" y="55627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Mongolian Yu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P Practi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Mongo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.  succeeded in their attempt to conquer Japa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.  facilitated trade along the Silk Road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.  constructed cities and irrigation systems during their conquest of Persi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.  had little respect for craftsmen and their wor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.  established no communications with western Europ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P Practi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Mongol Empire was divided into four Khanates, which governed all of the following lands EXCEP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.  Chi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.  Kore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.  Russ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. Pers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  Jap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ngolian Arm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538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rength based on strategy &amp; mobility (horse-back archers – each soldier had 2 up to 16 horses – could swap – had the technology of </a:t>
            </a: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stirrup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 – small units (10) to be able to deploy in ambushes and </a:t>
            </a: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feint-retre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5" descr="Mongolattack"/>
          <p:cNvPicPr/>
          <p:nvPr/>
        </p:nvPicPr>
        <p:blipFill>
          <a:blip r:embed="rId1"/>
          <a:stretch/>
        </p:blipFill>
        <p:spPr>
          <a:xfrm>
            <a:off x="5105520" y="685800"/>
            <a:ext cx="3714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enghis Khan’s Empi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4" descr="Genghis Khan's Empire, 1227"/>
          <p:cNvPicPr/>
          <p:nvPr/>
        </p:nvPicPr>
        <p:blipFill>
          <a:blip r:embed="rId1"/>
          <a:stretch/>
        </p:blipFill>
        <p:spPr>
          <a:xfrm>
            <a:off x="0" y="112392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5"/>
          <p:cNvSpPr/>
          <p:nvPr/>
        </p:nvSpPr>
        <p:spPr>
          <a:xfrm>
            <a:off x="6781680" y="320040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0" y="1295280"/>
            <a:ext cx="3048120" cy="17528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ly death of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ghis stopp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 out attack on Euro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AutoShape 7"/>
          <p:cNvSpPr/>
          <p:nvPr/>
        </p:nvSpPr>
        <p:spPr>
          <a:xfrm rot="19951200">
            <a:off x="326520" y="5036760"/>
            <a:ext cx="2133720" cy="463680"/>
          </a:xfrm>
          <a:prstGeom prst="rightArrow">
            <a:avLst>
              <a:gd name="adj1" fmla="val 50000"/>
              <a:gd name="adj2" fmla="val 11504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feated in 125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3809880" y="5105520"/>
            <a:ext cx="4876920" cy="1067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pital at 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Karakoru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but prohibited fellow Mongols from sedentary occupations or living in cities – but under successors will settle into administrative posi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eatment of Conquered Territory by Mongo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fear – would decimate town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one came out in open – would be saved; if tried to hide – would be kille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e town where son-in-law killed – he had it destroyed to the ground so that the land could now be plow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Map"/>
          <p:cNvPicPr/>
          <p:nvPr/>
        </p:nvPicPr>
        <p:blipFill>
          <a:blip r:embed="rId1"/>
          <a:stretch/>
        </p:blipFill>
        <p:spPr>
          <a:xfrm>
            <a:off x="0" y="2819520"/>
            <a:ext cx="9144000" cy="49194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fter Death of Gengh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487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vided among heirs – </a:t>
            </a: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khanat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gan a movement against Persia &amp; Chin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rned gunpowder from China (now handguns &amp; cannon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ublai Khan – 1279-129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386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ndson of Gengh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quered Song Dynasty established new dynasty –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Yua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good at adapting to Chinese politics – except highest positions reserved for Mongol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Marco Pol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visits China and was impressed by court of Kublai Khan.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Pax Mongol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anded into 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5" descr="Marco_Polo"/>
          <p:cNvPicPr/>
          <p:nvPr/>
        </p:nvPicPr>
        <p:blipFill>
          <a:blip r:embed="rId1"/>
          <a:stretch/>
        </p:blipFill>
        <p:spPr>
          <a:xfrm>
            <a:off x="5192640" y="1981080"/>
            <a:ext cx="3924360" cy="3554640"/>
          </a:xfrm>
          <a:prstGeom prst="rect">
            <a:avLst/>
          </a:prstGeom>
          <a:ln w="0">
            <a:noFill/>
          </a:ln>
        </p:spPr>
      </p:pic>
      <p:sp>
        <p:nvSpPr>
          <p:cNvPr id="113" name="5-Point Star 1"/>
          <p:cNvSpPr/>
          <p:nvPr/>
        </p:nvSpPr>
        <p:spPr>
          <a:xfrm>
            <a:off x="152280" y="4800600"/>
            <a:ext cx="685800" cy="457200"/>
          </a:xfrm>
          <a:custGeom>
            <a:avLst/>
            <a:gdLst/>
            <a:ahLst/>
            <a:rect l="l" t="t" r="r" b="b"/>
            <a:pathLst>
              <a:path w="685800" h="457200">
                <a:moveTo>
                  <a:pt x="1" y="174634"/>
                </a:moveTo>
                <a:lnTo>
                  <a:pt x="261954" y="174636"/>
                </a:lnTo>
                <a:lnTo>
                  <a:pt x="342900" y="0"/>
                </a:lnTo>
                <a:lnTo>
                  <a:pt x="423846" y="174636"/>
                </a:lnTo>
                <a:lnTo>
                  <a:pt x="685799" y="174634"/>
                </a:lnTo>
                <a:lnTo>
                  <a:pt x="473874" y="282564"/>
                </a:lnTo>
                <a:lnTo>
                  <a:pt x="554823" y="457199"/>
                </a:lnTo>
                <a:lnTo>
                  <a:pt x="342900" y="349267"/>
                </a:lnTo>
                <a:lnTo>
                  <a:pt x="130977" y="457199"/>
                </a:lnTo>
                <a:lnTo>
                  <a:pt x="211926" y="282564"/>
                </a:lnTo>
                <a:lnTo>
                  <a:pt x="1" y="174634"/>
                </a:lnTo>
                <a:close/>
              </a:path>
            </a:pathLst>
          </a:custGeom>
          <a:solidFill>
            <a:srgbClr val="a3b2c1"/>
          </a:solidFill>
          <a:ln w="25560">
            <a:solidFill>
              <a:srgbClr val="778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ngols in Chin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609480" y="1828800"/>
            <a:ext cx="8153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vernment – favored Mongols and allied Islamic peoples over Chinese (even gave administrative jobs to foreign merchants like Marco Polo), did not like Confucianism so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no Civil Service Exam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– scholar-gentry very angry over th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ss Distinctions-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marriage prohibit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Chinese forbidden to learn Mongol script – but Kublai was fascinated with Chinese court pract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gol Women – refused to practice foot binding, some continued to hunt and fight in war – but Mongol stay in China too short to influence China’s long-standing Confucian treatment of wom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igion – although traditionally animist, Khans very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ested in other religion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Buddhism, Christianity, Daoist and Muslims all in Khan’s cour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mch12_07"/>
          <p:cNvPicPr/>
          <p:nvPr/>
        </p:nvPicPr>
        <p:blipFill>
          <a:blip r:embed="rId1"/>
          <a:stretch/>
        </p:blipFill>
        <p:spPr>
          <a:xfrm>
            <a:off x="1219320" y="533520"/>
            <a:ext cx="7010280" cy="40003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6"/>
          <p:cNvSpPr/>
          <p:nvPr/>
        </p:nvSpPr>
        <p:spPr>
          <a:xfrm>
            <a:off x="228600" y="4846320"/>
            <a:ext cx="853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der Pax Mongolia - Trade flourished, and travelers such as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Ibn Battuta and Marco Pol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were able to write remarkable accounts of the lands they visited, but led to  bubonic plague, also opened up. The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Black Deat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originating in Central Asia, was one of a succession of plagues that followed the trade routes by land and sea, decimating parts of Europe and China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6:09:21Z</dcterms:created>
  <dc:creator>Lyons, Anne</dc:creator>
  <dc:description/>
  <dc:language>en-US</dc:language>
  <cp:lastModifiedBy>Windows User</cp:lastModifiedBy>
  <dcterms:modified xsi:type="dcterms:W3CDTF">2017-03-07T12:04:25Z</dcterms:modified>
  <cp:revision>117</cp:revision>
  <dc:subject/>
  <dc:title>The Asian World 400-1500</dc:title>
</cp:coreProperties>
</file>